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B41E-152D-40A3-8985-0CBDD54C9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0563-C470-4172-B4FC-B3D5B88E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6470-2C1E-4C99-B071-01F4F07A1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9C2F-4CD5-4349-8450-1CBAB8B45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D1FD5-1492-4D97-8492-DFD1705C2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7B904-364D-47C7-AE0A-8FDB3C3F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2E10-53C9-4948-BFF7-C5F572D8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DE19-F4EE-4D65-803F-A8473E00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AB1F-D642-4FD4-8362-A42BCEBC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7CB7-63DF-4D42-B4AE-DBCC2389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A667-4DF7-42FD-A78B-55059C3E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0B02-DC8F-46D4-A5C8-2CC2B9F1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E4B2-7112-4786-9C16-422FA31C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8082-A606-42D4-970D-BB62121B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605E7-5665-4845-9760-87961170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4EBB-0D9D-4D48-A8E2-7033CAD9B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62B8-8BAE-4407-8C1D-76E137D96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2DBF-DFF0-4FF5-B9E1-E2AE1579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C680-B7F9-46CD-A5C9-98FF71C5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9955-8718-4585-A306-180A5825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3818-06AB-44A0-B970-B87C324A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F01F-3984-4688-9090-2AB1082C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6F34-E075-401A-8993-E922C1BA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1D5D-E7E6-49AB-A386-E0480760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E822-DFC1-4421-971C-6C67FF29EEFD}" type="slidenum"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A418-C2DD-4E39-B6B8-1A941100A7C1}" type="slidenum"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iMovie/6-12/Session 2 of 3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shop Titl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Lucida Grande"/>
              </a:rPr>
              <a:t>Students will share the following aspects of their project: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Lucida Grande"/>
              </a:rPr>
              <a:t>Explain how the choices you have made regarding the title animations, fonts, and transitions have enhanced your movie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2057400"/>
            <a:ext cx="9144000" cy="4800600"/>
          </a:xfrm>
          <a:prstGeom prst="rect">
            <a:avLst/>
          </a:prstGeom>
          <a:solidFill>
            <a:srgbClr val="d9b18d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How does this work address the </a:t>
            </a:r>
            <a:br>
              <a:rPr sz="3600"/>
            </a:b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questions that began the session?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164"/>
              </a:buClr>
              <a:buFont typeface="Zapf Dingba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We have seen how the choices we make as editors can effect the story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164"/>
              </a:buClr>
              <a:buFont typeface="Zapf Dingba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We have observed how title sequences, and transitions can add to or subtract from the overall impact of a movie.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How can we customize our movie using titles, transitions, and video effects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How do we import digital images into iMovie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look and feel of our movie can be affected by the title sequence and transitions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s lesson will focus on the following skills: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Zapf Dingba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Creating opening and closing title sequences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Zapf Dingba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Importing digital still images into iMovi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Zapf Dingba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dding transitions between scenes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What are possible sources of digital images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Zapf Dingba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 digital camera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Zapf Dingba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Online download (www.pics4learning.org)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Zapf Dingba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Scanning a digital picture into the computer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How can titles and transitions enhance a movie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uided Pract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oday’s skill will focus on: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Importing digital pictures into iMovi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Creating a title sequenc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Creating transitions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Lucida Grande"/>
              </a:rPr>
              <a:t>(see the tutorial for lesson 2 for specific directions)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etting Started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    </a:t>
            </a:r>
            <a:r>
              <a:rPr b="0" lang="en-US" sz="2400" spc="-1" strike="noStrike">
                <a:solidFill>
                  <a:srgbClr val="212164"/>
                </a:solidFill>
                <a:latin typeface="Lucida Grande"/>
              </a:rPr>
              <a:t>Take the next 30 minutes to import still images into iMovie. Add titles and transitions to your movies. After 30 minutes we will come back together and share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2164"/>
                </a:solidFill>
                <a:latin typeface="Lucida Grande"/>
              </a:rPr>
              <a:t>Participant Activity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Connect the digital still camera to the computer (if available)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Download and save the sample digital pictures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Import digital pictures into iMovie and include two pictures in your movie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Add titles and transitions to your movie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1599"/>
              </a:spcAft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Save your iMovie project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02:24:10Z</dcterms:created>
  <dc:creator>NYCD DOE</dc:creator>
  <dc:description/>
  <dc:language>en-US</dc:language>
  <cp:lastModifiedBy>NYCD DOE</cp:lastModifiedBy>
  <dcterms:modified xsi:type="dcterms:W3CDTF">2007-03-06T17:07:52Z</dcterms:modified>
  <cp:revision>30</cp:revision>
  <dc:subject/>
  <dc:title>Workshop Title</dc:title>
</cp:coreProperties>
</file>